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934-B19B-431A-A7BB-A349926E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7B1-4FE5-452F-A1C6-EE46A3C4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E9C-7F45-4734-A0CB-09738715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F94-6E6A-4470-83B0-C26F6795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5C55-62B5-4D42-AA83-53BFE5D9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9C3D-8DF3-4525-976B-70E0BBA7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4AB4-244D-4CF5-999D-FF98A7FC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CB33-2EB4-4A89-BEDF-3907B43F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1AA8-2A04-4914-B7FE-D4A3006E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420A-6C61-4CBE-8E4D-7E2F40E0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EE53-1A1F-4E4F-8680-CE65B238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5C2-7598-4765-9226-20FA515E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21C4-66E1-45A4-8C91-73126618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B1D3-9363-42E4-88A1-60C8C41B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DE52-8420-417A-BB33-A07B544D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20C5-B7C1-48FE-9BE9-D699D747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3AEC-ACE8-4017-9C47-27B92E7A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209-2B22-43A9-860E-CCF5692F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ED7-F3FF-4E2F-A635-033F36B7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C8D-8A01-4F8D-B325-5E4E7A4B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786-75DC-491E-BFFF-073E992B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093-F598-4972-AA13-9CD19F1B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29F-A56E-4B8B-BE1F-08F4A79C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9F2-2BB8-46BD-9C18-B35F1346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8BAF-D0AA-4D14-A8FF-DF5A1D4663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7B37-977A-496D-882A-215D0DABBC3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ASDM: Psychiatry 15th week of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3357360"/>
            <a:ext cx="800100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292929"/>
                </a:solidFill>
                <a:latin typeface="Verdana"/>
              </a:rPr>
              <a:t>ETHICAL ASPECTS AND LEGAL REGULATION OF MENTAL DISORDERS, DEONTOLOGICAL APPROACH IN PSYCHIATRY,</a:t>
            </a:r>
            <a:r>
              <a:rPr b="1" lang="en-US" sz="2800" spc="-1" strike="noStrike">
                <a:solidFill>
                  <a:srgbClr val="292929"/>
                </a:solidFill>
                <a:latin typeface="Verdana"/>
              </a:rPr>
              <a:t> </a:t>
            </a:r>
            <a:r>
              <a:rPr b="1" lang="sr-Latn-RS" sz="2800" spc="-1" strike="noStrike">
                <a:solidFill>
                  <a:srgbClr val="292929"/>
                </a:solidFill>
                <a:latin typeface="Verdana"/>
              </a:rPr>
              <a:t>FORENSIC PSYCHIATRY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292929"/>
                </a:solidFill>
                <a:latin typeface="Verdana"/>
              </a:rPr>
              <a:t>Prof. Dr. Dragana Dr. Ignjatović Ristić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292929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rof</a:t>
            </a:r>
            <a:r>
              <a:rPr b="0" lang="sr-Latn-RS" sz="2000" spc="-1" strike="noStrike">
                <a:solidFill>
                  <a:srgbClr val="292929"/>
                </a:solidFill>
                <a:latin typeface="Verdana"/>
              </a:rPr>
              <a:t>. Dr. Vladimir Janjić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Picture 46" descr=""/>
          <p:cNvPicPr/>
          <p:nvPr/>
        </p:nvPicPr>
        <p:blipFill>
          <a:blip r:embed="rId1"/>
          <a:stretch/>
        </p:blipFill>
        <p:spPr>
          <a:xfrm>
            <a:off x="7308720" y="1125360"/>
            <a:ext cx="1397160" cy="1683000"/>
          </a:xfrm>
          <a:prstGeom prst="rect">
            <a:avLst/>
          </a:prstGeom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- psychiatric expertise in the civil-law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pertise in business (in)capac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pertise in the ability to draw up wills and contrac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cedural capacity experti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pertise in divorce and child custody proceeding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pertise in non-material (non-property) damage compensation procedur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nsic psychiatry and alcohol-relate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425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rst stage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ght drunkenness(0.5-1.5 per thousand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stage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al drunkenness (1.5-2.5 per thousand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stage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arcotic(2.5-3.5 per thousand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stage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matose(&gt;3.5 per thousand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gal frame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Law on Patient Righ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w on Protection of Persons with Mental Disabilit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ational guidelines of good clinical practice (treatment of depression, schizophrenia...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Forensic psychiatry: </a:t>
            </a:r>
            <a:br>
              <a:rPr sz="3200"/>
            </a:b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ules of behavior and law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authority of society: legislative, judicial, and execu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ecessary and good harmonization of national and international legisl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15788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concept of experti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swer to the Court based on evidence, rules of the profession, and objectivel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expert opinion is determined by the Court, in a written decision, and can be determined by an institution, a team, or an individu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void professional expressions before the Cour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Arial"/>
              </a:rPr>
              <a:t>Forensic - psychiatric expert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 the field of criminal law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 the civil-law fiel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nsic - psychiatric expertise in the criminal-law field -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Comprehension: the ability to understand the significance of the committed act or the ability to manage one’s own actions at the time of the tortious situation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Comprehension is not a personality trait, but a temporary category that an expert declares, during a delict situation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96480"/>
            <a:ext cx="78483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nsic-psychiatric expertise in the criminal law field  - the ability to understand the importance of one’s own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ability to reason adequatel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t implies the ability of the executor to realize the real and social significance of his a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erequisite preserved intellectual capacit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92972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nsic - psychiatric expertise in the criminal-law fiel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 ability to manage one's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ability to decide, that is, the power of a person to initiate, direct, or control his own behaviors and ac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consequence of the harmonious development of cognitive and motivational process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nsic - psychiatric expertise in the criminal–law field - assessment of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naccountability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ignificant reduction in sanity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asonablen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Up-Down Arrow 5"/>
          <p:cNvSpPr/>
          <p:nvPr/>
        </p:nvSpPr>
        <p:spPr>
          <a:xfrm>
            <a:off x="4286160" y="2143080"/>
            <a:ext cx="984240" cy="1216080"/>
          </a:xfrm>
          <a:prstGeom prst="upDownArrow">
            <a:avLst>
              <a:gd name="adj1" fmla="val 50000"/>
              <a:gd name="adj2" fmla="val 50022"/>
            </a:avLst>
          </a:prstGeom>
          <a:solidFill>
            <a:srgbClr val="cc9900"/>
          </a:solidFill>
          <a:ln w="936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Up-Down Arrow 6"/>
          <p:cNvSpPr/>
          <p:nvPr/>
        </p:nvSpPr>
        <p:spPr>
          <a:xfrm>
            <a:off x="4357800" y="4500720"/>
            <a:ext cx="984240" cy="1215720"/>
          </a:xfrm>
          <a:prstGeom prst="upDownArrow">
            <a:avLst>
              <a:gd name="adj1" fmla="val 50000"/>
              <a:gd name="adj2" fmla="val 50008"/>
            </a:avLst>
          </a:prstGeom>
          <a:solidFill>
            <a:srgbClr val="cc9900"/>
          </a:solidFill>
          <a:ln w="9360">
            <a:solidFill>
              <a:srgbClr val="292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nsic-psychiatric expertise in the criminal law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pert examination of perpetrators of criminal a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pert testimony of witnesses of criminal a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pert testimony of crime victim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spects of certain types of criminal act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rimes against life and limb: minor bodily injury, serious bodily injury and murd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rimes against proper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xual crimes: rape, unnatural fornication and fornication and ince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21:04:23Z</dcterms:created>
  <dc:creator>milica borovcanin</dc:creator>
  <dc:description/>
  <dc:language>en-US</dc:language>
  <cp:lastModifiedBy>Milena Stojkovic</cp:lastModifiedBy>
  <dcterms:modified xsi:type="dcterms:W3CDTF">2024-02-11T19:55:17Z</dcterms:modified>
  <cp:revision>28</cp:revision>
  <dc:subject/>
  <dc:title>Мере безбедности медицинског карактера</dc:title>
</cp:coreProperties>
</file>